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0F5A-793A-41F8-86A5-6BC1B592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6AF4-F4AD-40BE-A7FE-3AC48A52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6282-E8C3-4081-A147-30FBD549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C92B-D6C9-4EDD-A39B-DE76E91B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C6B9-DD72-4E29-B70F-55FFEA38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7CA-1278-4217-A7EF-6754AD6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183-1847-46FC-B4EB-CCFCCDC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683-F5EB-4AB6-9C87-9714959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232E-50B9-44DF-BCB6-855DAA72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103-8DCF-4A9A-9A33-8E34878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97BE-916C-4065-8E41-09A95E8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DF31-C9F8-42AE-BE53-631F41FA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B79E-20C6-4C13-A63C-C96950E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4C4F-C584-42F8-B895-5B4003B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56D1-81B9-43C8-BF33-E4BF5A9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F82E-9C8E-4333-A0EB-EF5C80E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A43-3809-43E7-98D0-9D082190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01E4-57E0-4292-B5C5-46E78C62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14DE-8766-43B5-9875-BA92D541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3574-C4D9-47FA-AC6D-D6482863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86F6-8048-4C63-BA9D-BDA9B1B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9E8D-7128-4718-A32C-884450F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6C8F-4B9E-46C8-8EDF-F163862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E52F-FA94-4B02-AF63-FD594D8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A2E-9DA5-42D2-A2EF-EAB0A0D35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4B0-2256-4DA8-884F-0F0F89BE7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grund-view-from-the-bock"/>
          <p:cNvPicPr/>
          <p:nvPr/>
        </p:nvPicPr>
        <p:blipFill>
          <a:blip r:embed="rId1"/>
          <a:stretch/>
        </p:blipFill>
        <p:spPr>
          <a:xfrm>
            <a:off x="5257800" y="407664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er (Ex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er (Ste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n (w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re (g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 (beauti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teel-cube-by-gus-modern"/>
          <p:cNvPicPr/>
          <p:nvPr/>
        </p:nvPicPr>
        <p:blipFill>
          <a:blip r:embed="rId1"/>
          <a:stretch/>
        </p:blipFill>
        <p:spPr>
          <a:xfrm>
            <a:off x="5562720" y="10666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Red wine can stop you from going deaf, researchers say"/>
          <p:cNvPicPr/>
          <p:nvPr/>
        </p:nvPicPr>
        <p:blipFill>
          <a:blip r:embed="rId2"/>
          <a:stretch/>
        </p:blipFill>
        <p:spPr>
          <a:xfrm rot="8901000">
            <a:off x="4431960" y="4103280"/>
            <a:ext cx="14572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holi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ension, Whitmonday, Assumption, Easter, Christmas, Grand Duke’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greet some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tle hand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watching this presen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4" descr=""/>
          <p:cNvPicPr/>
          <p:nvPr/>
        </p:nvPicPr>
        <p:blipFill>
          <a:blip r:embed="rId1"/>
          <a:stretch/>
        </p:blipFill>
        <p:spPr>
          <a:xfrm>
            <a:off x="523800" y="433440"/>
            <a:ext cx="80344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xembourg is surrounded by France, Germany, and Belgium in Eur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295280" y="990720"/>
            <a:ext cx="6400800" cy="18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666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oca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0" name="Picture 9" descr="Luxembourg_worldareamap"/>
          <p:cNvPicPr/>
          <p:nvPr/>
        </p:nvPicPr>
        <p:blipFill>
          <a:blip r:embed="rId2"/>
          <a:stretch/>
        </p:blipFill>
        <p:spPr>
          <a:xfrm>
            <a:off x="2770200" y="3048120"/>
            <a:ext cx="349884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-0.15555 C -0.07205 -0.03912 -0.44271 0.49167 -0.37882 0.6206 C -0.31493 0.74954 0.3118 0.73495 0.37448 0.61852 C 0.43715 0.50208 0.06076 0.05116 -0.00295 -0.07824 C -0.06667 -0.20764 0.0533 -0.27199 -0.00938 -0.15555 Z">
                                      <p:cBhvr>
                                        <p:cTn id="3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304920" y="609480"/>
            <a:ext cx="853416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Did you kno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isine of Luxembourg is influenced by French and Ger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 is a hub of travel fo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often wear 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wear suits and hats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train300,0"/>
          <p:cNvPicPr/>
          <p:nvPr/>
        </p:nvPicPr>
        <p:blipFill>
          <a:blip r:embed="rId1"/>
          <a:stretch/>
        </p:blipFill>
        <p:spPr>
          <a:xfrm>
            <a:off x="6172200" y="3429000"/>
            <a:ext cx="206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4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an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Capital: Luxembo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Population: 474,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Real GDP: $69,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If it is noon here, then it would be about nine PM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anguage: Luxembourg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eligion: Roman Catholic 8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strong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knuedler"/>
          <p:cNvPicPr/>
          <p:nvPr/>
        </p:nvPicPr>
        <p:blipFill>
          <a:blip r:embed="rId1"/>
          <a:stretch/>
        </p:blipFill>
        <p:spPr>
          <a:xfrm>
            <a:off x="6705720" y="3276720"/>
            <a:ext cx="2158920" cy="3314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s &amp; Courte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greet one other by a gentle handsh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gum while talking is very imp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ers may have coffee around 4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3037371"/>
          <p:cNvPicPr/>
          <p:nvPr/>
        </p:nvPicPr>
        <p:blipFill>
          <a:blip r:embed="rId1"/>
          <a:stretch/>
        </p:blipFill>
        <p:spPr>
          <a:xfrm>
            <a:off x="5867280" y="3505320"/>
            <a:ext cx="24386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parents sometimes care for the kids when the parents ar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ing starts at age 15 and only civil marriages in a church are recognized b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Pudding is, a disgusting Christmas eve meal made of lots of gross pig stu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590920" y="304920"/>
            <a:ext cx="4267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Century Gothic"/>
              </a:rPr>
              <a:t>lifestyl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Century Gothic"/>
              <a:ea typeface="Century Gothic"/>
            </a:endParaRPr>
          </a:p>
        </p:txBody>
      </p:sp>
      <p:pic>
        <p:nvPicPr>
          <p:cNvPr id="126" name="Picture 5" descr="blackpudding460"/>
          <p:cNvPicPr/>
          <p:nvPr/>
        </p:nvPicPr>
        <p:blipFill>
          <a:blip r:embed="rId1"/>
          <a:stretch/>
        </p:blipFill>
        <p:spPr>
          <a:xfrm>
            <a:off x="4495680" y="4815000"/>
            <a:ext cx="327672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port: 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idays: Grand Duke’s Birthday (on National Day, 23 June), Ascension, Whitmonday, Assumption (August 15), Easter, Christmas.  Christmas and Easter ar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743200" y="533520"/>
            <a:ext cx="41148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Century Gothic"/>
              </a:rPr>
              <a:t>lifesty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Century Gothic"/>
              <a:ea typeface="Century Gothic"/>
            </a:endParaRPr>
          </a:p>
        </p:txBody>
      </p:sp>
      <p:pic>
        <p:nvPicPr>
          <p:cNvPr id="130" name="Picture 6" descr="Cross-Silhouetted-Against-Sky-Fort-Cachacrou-Soufriere-Dominica-Photographic-Print-C12677624"/>
          <p:cNvPicPr/>
          <p:nvPr/>
        </p:nvPicPr>
        <p:blipFill>
          <a:blip r:embed="rId1"/>
          <a:stretch/>
        </p:blipFill>
        <p:spPr>
          <a:xfrm>
            <a:off x="4572000" y="4572000"/>
            <a:ext cx="1716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 has a constitutional monarchy government ruled by the Grand Du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Primary School for kids 6 years old and public and private schools, colleges, and institutions for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rtation and communication is modern, efficient, and well main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Williamsburg-406653"/>
          <p:cNvPicPr/>
          <p:nvPr/>
        </p:nvPicPr>
        <p:blipFill>
          <a:blip r:embed="rId1"/>
          <a:stretch/>
        </p:blipFill>
        <p:spPr>
          <a:xfrm>
            <a:off x="5791320" y="228600"/>
            <a:ext cx="2514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8:53:17Z</dcterms:created>
  <dc:creator>CVJH-LAB</dc:creator>
  <dc:description/>
  <dc:language>en-US</dc:language>
  <cp:lastModifiedBy>nield411</cp:lastModifiedBy>
  <dcterms:modified xsi:type="dcterms:W3CDTF">2008-01-12T00:28:15Z</dcterms:modified>
  <cp:revision>32</cp:revision>
  <dc:subject/>
  <dc:title>Luxembourg</dc:title>
</cp:coreProperties>
</file>